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80D-87FC-420E-8539-4F163A8B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59F-A653-465E-A931-DABDCC3B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E46-8445-478E-B2B0-C1CD40E6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197-2E5C-47D0-9C4D-51388AAE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DD8-C55C-4B8E-A698-A368ABC6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1EF-F990-4978-BBC1-FE445D63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F9D-67C9-4945-A313-C6C6ED35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7F0-915B-469C-AF4B-D842018A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009-AA31-4EBC-AE44-F7F1821B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D6B-8587-477D-A179-74038B18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166-25A7-4947-A8D6-F9E81E9F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693-C22B-4991-9765-D077A385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34DA-D7F6-49A3-8B7C-570D4711A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Tougher than N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449568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By Sarah Whe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"/>
              </a:rPr>
              <a:t>Problem</a:t>
            </a:r>
            <a:r>
              <a:rPr b="0" lang="en-US" sz="4800" spc="-1" strike="noStrike">
                <a:solidFill>
                  <a:srgbClr val="ff0066"/>
                </a:solidFill>
                <a:latin typeface="Bradley Hand IT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What brand of fingernail polish stays on the long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"/>
              </a:rPr>
              <a:t>Hypothesi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I predict that the Avon brand of fingernail polish will stay on the long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"/>
              </a:rPr>
              <a:t>Mater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5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Fingernail po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Fingernail polish rem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Penc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Q-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"/>
              </a:rPr>
              <a:t>Proced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First I used fingernail polish remover on the people that already had on fingernail po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Second I applied 1 coat of fingernail polish and let it stay on for 1 week without them doing anything except for their norm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Next I took pictures of each girls hands after they got painted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radley Hand ITC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 and after they got painted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radley Hand ITC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After 1 week I repeated this process once again. Until they had on the polish for 2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Love my Nails lasted the long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The Avon brand of fingernail polish didn’t last as long as what I expected. I thought that the Love my Nails brand wouldn’t stay on for very long I never would have expected that it would have lasted the long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"/>
              </a:rPr>
              <a:t>Conclusion</a:t>
            </a:r>
            <a:r>
              <a:rPr b="0" lang="en-US" sz="4800" spc="-1" strike="noStrike">
                <a:solidFill>
                  <a:srgbClr val="ff0066"/>
                </a:solidFill>
                <a:latin typeface="Bradley Hand IT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After painting the nails twice I was able to come to the Conclusion that Love my Nails is the longest lasting brand of fingernail po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I started out with 5 girls and 5 different brands of fingernail polish, but I had to change that and use only 4 girls and 4 different brands of fingernail po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I learned that it is important to make sure that everyone can keep on the fingernail polish for 2 weeks. I was glad that I took pictures of everyone's hands individually instead of in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D376</cp:lastModifiedBy>
  <dcterms:modified xsi:type="dcterms:W3CDTF">2010-05-03T19:44:4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